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8AF6-DE9B-4872-A3B9-3B09B0880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gram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D 740 Study Team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1606-3FDB-4685-ACC6-CB94CFF37C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ssessing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0553-E07F-4B5A-8188-3BA57D2ECC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Assessing Implem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rocess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Impact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st – Benefit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7D6C-823C-48AD-A034-BED8800DB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Process Eval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scribes the functions of the program: who received services, what were the services, what were the environmental factors of the program and when were the service delive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B39C-9EE4-45F3-9445-0CF4BAD84E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ples of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mographic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umber of persons served i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scription of intake and assessment process, number of interviews or interactions, description of number of training activities, specific curriculum deli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ime and length of specific intervention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ntext in which activities were deliver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ination of how long services were deli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scriptors of who delivered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77BC-1B9B-4815-A3FE-3BD2476D8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Impact Eval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ttempts to answer the question of what behaviors, attitudes, community change or other hypothesized expected improvement occurred as a result of the program’s activit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9005-3BF0-4DDD-B23A-5E32262788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Cost  - 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n assessment of different alternatives in order to see whether the benefits outweigh the co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 monetary value or other measurement unit is placed on both tangible and intangible factors related to implementation of a specific ac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st-benefit analysis attempts to assess if the program’s benefits exceed the program’s implement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D288-7DE7-47BE-A1FD-E854A8C3F5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$8,000 cost for installation of energy efficient windows by homeow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$1,200 reb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= $6,800 cost paid by ow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$1,000 annual electric bill before installation of 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$6,800/$200 = 34 years before return on inves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FD41-F7E1-40F5-99B2-2E0B29115B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Shoestring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91D-B034-43F9-8C30-0632C443C4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The Shoestring Approa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rogram evaluators conduct impact evaluations when working under budget, time, or data constr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BA1D-DC3C-4B1D-B290-F31044B7F1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Shoestring Appro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evaluator is not called in until the project is already well adv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ight deadline for completing the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mbined with a limited budget and without access to baselin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udget, political, or methodological reasons it is not possible to collect baseline data on a contro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aling with constraints related to costs, time and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63F6-123B-4D9B-ABB0-7F102EC3FA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rogram Eval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systematic method for collecting analyzing, and using information to answer questions about projects, policies and programs, particularly about their effectiveness and efficiency.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D79E-5AE8-4E49-9A8B-FE08A3353B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Shoestring Approach co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Identifying the strengths and weaknesses of the evaluation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aking measures to address the threats and strengthen the evaluation design and 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hen necessary, many of these corrective measures can be introduced at a very late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approach was designed to assist evaluators working in developing countries, the principles are equally applicable in industrial 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5D78-2D6C-466C-8C1F-EA1655569F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termining Cau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E556-E181-43DF-9F88-DDC9F0E88A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Cau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irect causation is very diffic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ithout randomly assigned test and control groups, providing causation is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nclusively showing that an intervention has created a data point requires longitudinal stu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DEEC-1D7F-4047-8DFD-4273F0CC37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Cau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Multiple resources interact in a setting which may or may not impact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Self-selection in programs being evaluated contributes to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nother consideration must be unintended results – both positive and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A591-4411-4700-9D94-5C2E8BE40A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eliability, Validity and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8264-95C8-438E-93D6-E916D9F030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eliability, Validity and Sensitiv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redible evaluations rely on the use of reliable, valid and sensitive instru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0355-3781-47A6-BB24-0C32D770E2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eliability is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“extent to which the measure produces the same results when used repeatedly to measure the same thing” (Rossi et al., 2004, p. 21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1B1E-765F-44E1-85D4-934A5F58A8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Validity is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“extent to which it measures what it is intended to measure” (Rossi et al., 2004, p. 21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2405-E7C8-4C2C-BFC8-2DFB461F94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Sensitiv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instrument must be able to discern potential changes on the social probl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instrument is insensitive if it contains items measuring outcomes which the program couldn’t possibly effect (Rossi et al., 2004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B017-2B14-4333-BFC8-E32012AE8B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9EF9-7BAB-486C-AEF7-27F0522CB7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ing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ing program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ing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termining cau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liability, Validity and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Shoesting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thodologic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B6FD-6E60-4552-8F51-C64C8335FE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challenges of program evaluation vary from organization to organization, region to region, and country to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D4D6-661C-4274-8541-1699B35304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Cost: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an be expen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Expertise: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equire a high level of expertise to verify the goals of the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Measurement: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must ensure the performance measures will answer the questions that will determine the effectiveness of the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Time: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an be time consuming and could divert staff from day-to-day functi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0EA4-F555-439B-95B9-661DB877B1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hallenges when conducting program evaluations in developing countr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ulture can influence many facets of the evaluation process, including data collection, evaluation of the program implementation, and the analysis and understanding of the results of the evaluation” (Ebbutt, 199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10A3-C7F5-4F5C-A56F-478F304414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hallenges when conducting program evaluations in developing countr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anguage can be a major barrier to communicating concepts which the evaluator is trying to access, and translation is often required” (Ebbutt, 199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37AD-1D07-4C3E-9B18-2E7C88B5A6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eds Assess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rogram Theory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3838-E136-4215-A68B-C04CC84E6D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Needs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ines the target population to determine if the need specified in the program is in fact a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If so, how the problem might best be dealt wi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6CBE-43CA-4AC6-8883-E444B2BF19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eeds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Include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dentifying and diagnosing the actual problem the program is trying to add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o or what is affected by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ow widespread is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at are the measurable effects that are caused by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0255-6DDC-4C77-A94D-49AEC254D9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pl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using program aimed at mitigating homeless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99AA-CD05-4AE5-A67B-3747A46E3B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gram Theory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n assumption, implicit in the way the program is designed, about how the program’s action are supposed to achieve the outcomes it int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ssesses whether the logic is plau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Important to review existing research that has been done it the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B7F4-3A57-48A3-9EB5-E87EB8122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pl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IV Preventio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4FC7-9027-4DCF-911B-05C382547B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519-1AE5-4310-96D5-2AB0C0AD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5F6-BBB1-471F-9E01-312B3358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383-B1E8-429C-BF96-C1FAA826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2DD-399B-4BF9-83FB-C3C2C4D8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CBCB-C37C-4C2E-8A79-3769F2B3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444F-DAD2-49B5-8464-65F0A355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F877-D329-4852-8F9D-CC6D2FAB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6A7C-1CF4-4BD7-8BB2-0E190B4A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AAFA-C49F-45F8-9950-63371C0D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2997-C666-47C6-BC8B-5AF621BD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3B56-F347-46DA-A8F9-0AFFC0E1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C35-E9DF-45D0-9269-7197B6D3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77D8-04C7-4E17-8A52-9681E607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A497-2896-4072-8994-4C58E387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71D9-DEDC-4D2F-8414-54EF8C82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7E15-71B9-466F-9FC0-4650425D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BE4A-FE6E-4586-84E6-8BC084B1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84A-664B-469C-A9D1-3F08A181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201-6018-4D0B-B6AF-7F9F277F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F3B-4BC9-45F9-965E-37465EE1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557-74CB-42EC-9A60-30E2446F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829-0006-4581-A800-7C91BB34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4C0-120D-4D71-B5F5-B53A591D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191-3601-46C2-A204-30094EF1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EA8F-8430-4F1A-96DD-0E1F079F1B0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CCE3-E0A9-486C-A121-E10558D2282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Pj04037270000[1]"/>
          <p:cNvPicPr/>
          <p:nvPr/>
        </p:nvPicPr>
        <p:blipFill>
          <a:blip r:embed="rId1"/>
          <a:stretch/>
        </p:blipFill>
        <p:spPr>
          <a:xfrm>
            <a:off x="0" y="0"/>
            <a:ext cx="9263160" cy="7162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143000" y="3657600"/>
            <a:ext cx="70866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gram Evalu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 740 Study Team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exam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990720" y="167652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ssessing Implementa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b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exam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105520" y="0"/>
            <a:ext cx="4038480" cy="5573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ing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– Benefit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exam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105520" y="0"/>
            <a:ext cx="4038480" cy="6552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s the functions of the program: who received services, what were the services, what were the environmental factors of the program and when were the service deliver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vinodkothari.com/soft%20skills.jpg"/>
          <p:cNvPicPr/>
          <p:nvPr/>
        </p:nvPicPr>
        <p:blipFill>
          <a:blip r:embed="rId1"/>
          <a:stretch/>
        </p:blipFill>
        <p:spPr>
          <a:xfrm>
            <a:off x="-685800" y="0"/>
            <a:ext cx="38289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124080" y="0"/>
            <a:ext cx="6019920" cy="1922760"/>
          </a:xfrm>
          <a:prstGeom prst="rect">
            <a:avLst/>
          </a:prstGeom>
          <a:solidFill>
            <a:srgbClr val="e0e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amples of Data Colle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124080" y="1828800"/>
            <a:ext cx="6019920" cy="5169240"/>
          </a:xfrm>
          <a:prstGeom prst="rect">
            <a:avLst/>
          </a:prstGeom>
          <a:solidFill>
            <a:srgbClr val="e0e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graphic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persons served in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intake and assessment process, number of interviews or interactions, description of number of training activities, specific curriculum deliv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and length of specific intervention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 in which activities were delive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ation of how long services were deliv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ors of who delivere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exam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0"/>
            <a:ext cx="4038480" cy="6032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act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s to answer the question of what behaviors, attitudes, community change or other hypothesized expected improvement occurred as a result of the program’s activit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exam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495680" y="0"/>
            <a:ext cx="4648320" cy="682668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st  - Benefi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ssessment of different alternatives in order to see whether the benefits outweigh the co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onetary value or other measurement unit is placed on both tangible and intangible factors related to implementation of a specific activ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-benefit analysis attempts to assess if the program’s benefits exceed the program’s implementation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www.vinodkothari.com/soft%20skills.jpg"/>
          <p:cNvPicPr/>
          <p:nvPr/>
        </p:nvPicPr>
        <p:blipFill>
          <a:blip r:embed="rId1"/>
          <a:stretch/>
        </p:blipFill>
        <p:spPr>
          <a:xfrm>
            <a:off x="-685800" y="0"/>
            <a:ext cx="382896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3124080" y="0"/>
            <a:ext cx="6019920" cy="1008360"/>
          </a:xfrm>
          <a:prstGeom prst="rect">
            <a:avLst/>
          </a:prstGeom>
          <a:solidFill>
            <a:srgbClr val="e0e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124080" y="990720"/>
            <a:ext cx="6019920" cy="6135480"/>
          </a:xfrm>
          <a:prstGeom prst="rect">
            <a:avLst/>
          </a:prstGeom>
          <a:solidFill>
            <a:srgbClr val="e0e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8,000 cost for installation of energy efficient windows by home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$1,200 reb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6,800 cost paid by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,000 annual electric bill before installation of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6,800/$200 = 34 years before return on 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4.bp.blogspot.com/_g5N-PvvF34c/THkZ56cC1oI/AAAAAAADR4I/AFVlpTwrbsk/s1600/Shoe-Lace-Shoe-String_13973-480x360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 rot="21146400">
            <a:off x="3075840" y="2733480"/>
            <a:ext cx="58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Shoestring Approach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http://4.bp.blogspot.com/_g5N-PvvF34c/THkZ56cC1oI/AAAAAAADR4I/AFVlpTwrbsk/s1600/Shoe-Lace-Shoe-String_13973-480x360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800600" y="0"/>
            <a:ext cx="4343400" cy="6630480"/>
          </a:xfrm>
          <a:prstGeom prst="rect">
            <a:avLst/>
          </a:prstGeom>
          <a:solidFill>
            <a:srgbClr val="e1e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hoestring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evaluators conduct impact evaluations when working under budget, time, or data constr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http://4.bp.blogspot.com/_g5N-PvvF34c/THkZ56cC1oI/AAAAAAADR4I/AFVlpTwrbsk/s1600/Shoe-Lace-Shoe-String_13973-480x360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4800600" y="0"/>
            <a:ext cx="4343400" cy="6595200"/>
          </a:xfrm>
          <a:prstGeom prst="rect">
            <a:avLst/>
          </a:prstGeom>
          <a:solidFill>
            <a:srgbClr val="e1e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hoestring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valuator is not called in until the project is already well 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ght deadline for completing the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with a limited budget and without access to baselin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, political, or methodological reasons it is not possible to collect baseline data on a control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ling with constraints related to costs, time an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5f40b6b3-c3f6-4e80-a55c-7b4767e1b318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5029200" y="0"/>
            <a:ext cx="4114800" cy="6645600"/>
          </a:xfrm>
          <a:prstGeom prst="rect">
            <a:avLst/>
          </a:prstGeom>
          <a:solidFill>
            <a:srgbClr val="3e8ea9"/>
          </a:solidFill>
          <a:ln w="9360">
            <a:solidFill>
              <a:srgbClr val="dfd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gram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ystematic method for collecting analyzing, and using information to answer questions about projects, policies and programs, particularly about their effectiveness and efficiency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ttp://4.bp.blogspot.com/_g5N-PvvF34c/THkZ56cC1oI/AAAAAAADR4I/AFVlpTwrbsk/s1600/Shoe-Lace-Shoe-String_13973-480x360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4800600" y="0"/>
            <a:ext cx="4343400" cy="6741360"/>
          </a:xfrm>
          <a:prstGeom prst="rect">
            <a:avLst/>
          </a:prstGeom>
          <a:solidFill>
            <a:srgbClr val="e1e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hoestring Approach co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ing the strengths and weaknesses of the evaluation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measures to address the threats and strengthen the evaluation design and conc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necessary, many of these corrective measures can be introduced at a very late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pproach was designed to assist evaluators working in developing countries, the principles are equally applicable in industrial 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acfrontier\Local Settings\Temporary Internet Files\Content.IE5\5AQC9IX0\MPj04015860000[1].jpg"/>
          <p:cNvPicPr/>
          <p:nvPr/>
        </p:nvPicPr>
        <p:blipFill>
          <a:blip r:embed="rId1"/>
          <a:stretch/>
        </p:blipFill>
        <p:spPr>
          <a:xfrm>
            <a:off x="-152280" y="0"/>
            <a:ext cx="10863000" cy="72388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 rot="21091200">
            <a:off x="1800360" y="42397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Determining Causa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acfrontier\Local Settings\Temporary Internet Files\Content.IE5\5AQC9IX0\MPj04015860000[1]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800600" y="0"/>
            <a:ext cx="4343400" cy="7298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u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causation is very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randomly assigned test and control groups, providing causation is im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vely showing that an intervention has created a data point requires longitudinal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 rot="20800800">
            <a:off x="790560" y="456876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cken or the Eg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acfrontier\Local Settings\Temporary Internet Files\Content.IE5\5AQC9IX0\MPj04015860000[1]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4800600" y="0"/>
            <a:ext cx="4343400" cy="66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u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resources interact in a setting which may or may not impact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selection in programs being evaluated contributes to the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consideration must be unintended results – both positive and neg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 rot="20800800">
            <a:off x="790560" y="456876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cken or the Eg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2.tfk-racoms.com/racoms/_picture/content/reliabil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0" y="0"/>
            <a:ext cx="5638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eliability, Validity and Sensitivit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www2.tfk-racoms.com/racoms/_picture/content/reliability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4572000" y="0"/>
            <a:ext cx="4572000" cy="6760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iability, Validity and Sensi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ble evaluations rely on the use of reliable, valid and sensitive instru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www2.tfk-racoms.com/racoms/_picture/content/reliability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572000" y="0"/>
            <a:ext cx="4572000" cy="68187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iability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extent to which the measure produces the same results when used repeatedly to measure the same thing” (Rossi et al., 2004, p. 218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www2.tfk-racoms.com/racoms/_picture/content/reliability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572000" y="0"/>
            <a:ext cx="4572000" cy="6730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lidity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extent to which it measures what it is intended to measure” (Rossi et al., 2004, p. 21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www2.tfk-racoms.com/racoms/_picture/content/reliability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572000" y="0"/>
            <a:ext cx="4572000" cy="67161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nsi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strument must be able to discern potential changes on the social probl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strument is insensitive if it contains items measuring outcomes which the program couldn’t possibly effect (Rossi et al., 2004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www.dailychallenge.org/blog/wp-content/uploads/2008/12/mountain-climbing1-300x2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3124080" y="28195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balance"/>
          <p:cNvPicPr/>
          <p:nvPr/>
        </p:nvPicPr>
        <p:blipFill>
          <a:blip r:embed="rId1"/>
          <a:stretch/>
        </p:blipFill>
        <p:spPr>
          <a:xfrm>
            <a:off x="5943600" y="0"/>
            <a:ext cx="3352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0" y="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Building Block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523880"/>
            <a:ext cx="48769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ing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ing program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ing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ing cau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iability, Validity and Sensi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hoestring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hodologic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www.dailychallenge.org/blog/wp-content/uploads/2008/12/mountain-climbing1-300x287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4800600" y="0"/>
            <a:ext cx="4343400" cy="7138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allenges of program evaluation vary from organization to organization, region to region, and country to count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www.dailychallenge.org/blog/wp-content/uploads/2008/12/mountain-climbing1-300x287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4800600" y="0"/>
            <a:ext cx="4343400" cy="6718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s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rtis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 a high level of expertise to verify the goals of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asuremen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ensure the performance measures will answer the questions that will determine the effectiveness of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time consuming and could divert staff from day-to-day func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dailychallenge.org/blog/wp-content/uploads/2008/12/mountain-climbing1-300x287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800600" y="0"/>
            <a:ext cx="4343400" cy="652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when conducting program evaluations in developing countr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can influence many facets of the evaluation process, including data collection, evaluation of the program implementation, and the analysis and understanding of the results of the evaluation” (Ebbutt, 1998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www.dailychallenge.org/blog/wp-content/uploads/2008/12/mountain-climbing1-300x287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4800600" y="0"/>
            <a:ext cx="4343400" cy="6531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when conducting program evaluations in developing countr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can be a major barrier to communicating concepts which the evaluator is trying to access, and translation is often required” (Ebbutt, 1998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w_testin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0" y="-15228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eds Assessmen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gram Theory Assess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w_testing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562720" y="990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52880" y="0"/>
            <a:ext cx="3962520" cy="75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ines the target population to determine if the need specified in the program is in fact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o, how the problem might best be dealt wi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w_testing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5562720" y="990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0"/>
            <a:ext cx="4800600" cy="6226200"/>
          </a:xfrm>
          <a:prstGeom prst="rect">
            <a:avLst/>
          </a:prstGeom>
          <a:solidFill>
            <a:srgbClr val="cac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ing and diagnosing the actual problem the program is trying to add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o or what is affected by the proble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widespread is the proble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are the measurable effects that are caused by the proble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www.vinodkothari.com/soft%20skill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124080" y="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Example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0" y="5668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using program aimed at mitigating homeless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w_testing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952880" y="0"/>
            <a:ext cx="4191120" cy="6903360"/>
          </a:xfrm>
          <a:prstGeom prst="rect">
            <a:avLst/>
          </a:prstGeom>
          <a:solidFill>
            <a:srgbClr val="cac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Theory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 assumption, implicit in the way the program is designed, about how the program’s action are supposed to achieve the outcomes it intend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sses whether the logic is plau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ortant to review existing research that has been done it the are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vinodkothari.com/soft%20skills.jpg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86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124080" y="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Example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5668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V Prevention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2:38:25Z</dcterms:created>
  <dc:creator>KM</dc:creator>
  <dc:description/>
  <dc:language>en-US</dc:language>
  <cp:lastModifiedBy>user</cp:lastModifiedBy>
  <dcterms:modified xsi:type="dcterms:W3CDTF">2010-11-13T13:51:07Z</dcterms:modified>
  <cp:revision>34</cp:revision>
  <dc:subject/>
  <dc:title>Slide 1</dc:title>
</cp:coreProperties>
</file>